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477C-F7F4-4166-A9BC-1BEC44314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E442-E5E2-4EDF-9064-92AFD38A8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5DCE-1C31-4BD1-91AD-85D6A0F2D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863D-3E7C-46A7-BCD3-E13403A85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DBFFD-F200-4159-BF7B-8E25EAB7C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0084E-854D-427A-B5AB-4F92D1F23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260CB-8DAA-45CA-B090-1CFD6F06F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934A8-D807-4551-A528-C36EB32EB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DED6A-A86E-4907-9DB3-8AC2D161C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B9C3A-217D-4293-9278-2B50FFC30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6AC35-F10A-49DA-B1D3-D0E5600A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315F-D798-4982-AD1C-935BFDAD4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C257C-95AF-43DA-8610-5715D970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E9AB8-29F0-4F37-96FC-8EFF67FC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9F142-26FD-4877-8F25-2E940BB08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1027A-FC99-4847-9FD2-00F1FF90A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AF903-A6E4-4FCA-A4C1-062040736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8D38-3F49-42FE-ADF2-FE626DC5E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733C-5F82-4B12-86E6-CD10FDEA7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DE49-1D70-4266-9420-B438607BA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D66B-5916-4B6F-BC05-5D2E5BEE6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F708-32EF-4AA4-9A72-C88D637D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0F00-49F8-4C48-8CC5-3ED4B4CB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A71B-BB51-42D1-88D5-F8429CDF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2EEBB-EDE8-460D-9D35-C4750526C102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752480"/>
            <a:chOff x="0" y="0"/>
            <a:chExt cx="9144000" cy="1752480"/>
          </a:xfrm>
        </p:grpSpPr>
        <p:grpSp>
          <p:nvGrpSpPr>
            <p:cNvPr id="6" name=""/>
            <p:cNvGrpSpPr/>
            <p:nvPr/>
          </p:nvGrpSpPr>
          <p:grpSpPr>
            <a:xfrm>
              <a:off x="6480" y="1219320"/>
              <a:ext cx="9137520" cy="380160"/>
              <a:chOff x="6480" y="1219320"/>
              <a:chExt cx="9137520" cy="38016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1241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1334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1219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1554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1327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1219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600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1184400"/>
              <a:ext cx="9139320" cy="74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428840" indent="-22860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1771560" indent="-22860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B0ED6-E2D6-4F63-9870-F917FC3DFC57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7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9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TYPES OF EROSION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71600" y="2133720"/>
            <a:ext cx="6553080" cy="4141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2748240" y="6400800"/>
            <a:ext cx="323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© Copyright 2004 - 2005.  M. J. Krech. All rights reserved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822cd"/>
                </a:solidFill>
                <a:latin typeface="Lucida Grande"/>
              </a:rPr>
              <a:t>GLACIERS</a:t>
            </a:r>
            <a:endParaRPr b="1" lang="en-US" sz="48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2895480"/>
            <a:ext cx="3353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  </a:t>
            </a:r>
            <a:r>
              <a:rPr b="1" lang="en-US" sz="4000" spc="-1" strike="noStrike">
                <a:solidFill>
                  <a:srgbClr val="1822cd"/>
                </a:solidFill>
                <a:latin typeface="Lucida Grande"/>
              </a:rPr>
              <a:t>GLACIER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is a large mass of  moving ice and      snow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81280" y="2082960"/>
            <a:ext cx="5105520" cy="3398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WIND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Wind moves soil by 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  </a:t>
            </a:r>
            <a:r>
              <a:rPr b="1" lang="en-US" sz="3600" spc="-1" strike="noStrike">
                <a:solidFill>
                  <a:srgbClr val="1822cd"/>
                </a:solidFill>
                <a:latin typeface="Lucida Grande"/>
              </a:rPr>
              <a:t>DEFLATION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where wind removes loose material from the land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191120" y="2462040"/>
            <a:ext cx="4495680" cy="3042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4" name=""/>
          <p:cNvSpPr/>
          <p:nvPr/>
        </p:nvSpPr>
        <p:spPr>
          <a:xfrm>
            <a:off x="4251240" y="5715000"/>
            <a:ext cx="405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Here smaller sand grains are blow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away from around larger rock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822cd"/>
                </a:solidFill>
                <a:latin typeface="Lucida Grande"/>
              </a:rPr>
              <a:t>WATER</a:t>
            </a:r>
            <a:endParaRPr b="1" lang="en-US" sz="5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87488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  </a:t>
            </a:r>
            <a:r>
              <a:rPr b="1" lang="en-US" sz="2800" spc="-1" strike="noStrike">
                <a:solidFill>
                  <a:srgbClr val="1822cd"/>
                </a:solidFill>
                <a:latin typeface="Lucida Grande"/>
              </a:rPr>
              <a:t>Running water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is the major cause of erosion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Water picks up and carries loose particles of soil as it moves downhill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970520" y="1874880"/>
            <a:ext cx="3394080" cy="4525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822cd"/>
                </a:solidFill>
                <a:latin typeface="Lucida Grande"/>
              </a:rPr>
              <a:t>WATER</a:t>
            </a:r>
            <a:endParaRPr b="1" lang="en-US" sz="5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2895480"/>
            <a:ext cx="33530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Water  starts out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in tiny grooves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called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   </a:t>
            </a:r>
            <a:r>
              <a:rPr b="1" lang="en-US" sz="3600" spc="-1" strike="noStrike">
                <a:solidFill>
                  <a:srgbClr val="1822cd"/>
                </a:solidFill>
                <a:latin typeface="Lucida Grande"/>
              </a:rPr>
              <a:t>RILLS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505320" y="1981080"/>
            <a:ext cx="4214520" cy="4496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822cd"/>
                </a:solidFill>
                <a:latin typeface="Lucida Grande"/>
              </a:rPr>
              <a:t>WATER</a:t>
            </a:r>
            <a:endParaRPr b="1" lang="en-US" sz="5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240" y="20574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Rills become wider and deeper, 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calle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1" lang="en-US" sz="3600" spc="-1" strike="noStrike">
                <a:solidFill>
                  <a:srgbClr val="1822cd"/>
                </a:solidFill>
                <a:latin typeface="Lucida Grande"/>
              </a:rPr>
              <a:t>GULLIES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114800" y="2438280"/>
            <a:ext cx="4572000" cy="3036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WATER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87488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Gullies turn into 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  </a:t>
            </a:r>
            <a:r>
              <a:rPr b="1" lang="en-US" sz="4000" spc="-1" strike="noStrike">
                <a:solidFill>
                  <a:srgbClr val="1822cd"/>
                </a:solidFill>
                <a:latin typeface="Lucida Grande"/>
              </a:rPr>
              <a:t>STREAMS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which turn into 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  </a:t>
            </a:r>
            <a:r>
              <a:rPr b="1" lang="en-US" sz="3600" spc="-1" strike="noStrike">
                <a:solidFill>
                  <a:srgbClr val="1822cd"/>
                </a:solidFill>
                <a:latin typeface="Lucida Grande"/>
              </a:rPr>
              <a:t>RIVERS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724280" y="1752480"/>
            <a:ext cx="3241800" cy="4876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822cd"/>
                </a:solidFill>
                <a:latin typeface="Lucida Grande"/>
              </a:rPr>
              <a:t>WAVES</a:t>
            </a:r>
            <a:endParaRPr b="1" lang="en-US" sz="5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240" y="2819520"/>
            <a:ext cx="396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Waves carry off small rocks and sand from the beach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400"/>
          <a:stretch/>
        </p:blipFill>
        <p:spPr>
          <a:xfrm>
            <a:off x="3657600" y="2362320"/>
            <a:ext cx="5257800" cy="3456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EROSION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120" y="2819160"/>
            <a:ext cx="342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hat is the agent of erosion in this picture?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swer on next slide)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3394080" cy="4525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1756080" y="2084400"/>
            <a:ext cx="5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6157"/>
                </a:solidFill>
                <a:latin typeface="Lucida Grande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EROSION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240" y="3352320"/>
            <a:ext cx="380988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is the agent of erosion in this picture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. Water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6" name=""/>
          <p:cNvSpPr/>
          <p:nvPr/>
        </p:nvSpPr>
        <p:spPr>
          <a:xfrm>
            <a:off x="1737720" y="2084400"/>
            <a:ext cx="56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6157"/>
                </a:solidFill>
                <a:latin typeface="Lucida Grande"/>
              </a:rPr>
              <a:t>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038480" y="2590920"/>
            <a:ext cx="4800600" cy="3200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EROSION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2819160"/>
            <a:ext cx="3581640" cy="23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hat is the agent of erosion in   this picture?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. Gravity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0" name=""/>
          <p:cNvSpPr/>
          <p:nvPr/>
        </p:nvSpPr>
        <p:spPr>
          <a:xfrm>
            <a:off x="1761120" y="2084400"/>
            <a:ext cx="55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6157"/>
                </a:solidFill>
                <a:latin typeface="Lucida Grande"/>
              </a:rPr>
              <a:t>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886200" y="2414520"/>
            <a:ext cx="4800600" cy="3033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90720" y="2895480"/>
            <a:ext cx="350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822cd"/>
                </a:solidFill>
                <a:latin typeface="Lucida Grande"/>
              </a:rPr>
              <a:t>WHAT</a:t>
            </a:r>
            <a:r>
              <a:rPr b="0" lang="en-US" sz="54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0" lang="en-US" sz="5400" spc="-1" strike="noStrike">
                <a:solidFill>
                  <a:srgbClr val="1822cd"/>
                </a:solidFill>
                <a:latin typeface="Lucida Grande"/>
              </a:rPr>
              <a:t>I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822cd"/>
                </a:solidFill>
                <a:latin typeface="Lucida Grande"/>
              </a:rPr>
              <a:t>EROSION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175360" y="1874880"/>
            <a:ext cx="2982960" cy="4525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EROSION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520" y="2895120"/>
            <a:ext cx="38862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hat is the agent of erosion in this picture?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. Water and wave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4" name=""/>
          <p:cNvSpPr/>
          <p:nvPr/>
        </p:nvSpPr>
        <p:spPr>
          <a:xfrm>
            <a:off x="1756440" y="2084400"/>
            <a:ext cx="59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6157"/>
                </a:solidFill>
                <a:latin typeface="Lucida Grande"/>
              </a:rPr>
              <a:t>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267080" y="2336760"/>
            <a:ext cx="4419720" cy="3314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EROSION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3048120"/>
            <a:ext cx="2971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is the agent of erosion in this pictu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. W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54280" y="2084400"/>
            <a:ext cx="52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6157"/>
                </a:solidFill>
                <a:latin typeface="Lucida Grande"/>
              </a:rPr>
              <a:t>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4865"/>
          <a:stretch/>
        </p:blipFill>
        <p:spPr>
          <a:xfrm>
            <a:off x="2971800" y="2362320"/>
            <a:ext cx="5715000" cy="3592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EROSION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71" name=""/>
          <p:cNvSpPr/>
          <p:nvPr/>
        </p:nvSpPr>
        <p:spPr>
          <a:xfrm>
            <a:off x="469080" y="198108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6157"/>
                </a:solidFill>
                <a:latin typeface="Lucida Grande"/>
              </a:rPr>
              <a:t>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362320" y="1905120"/>
            <a:ext cx="6553080" cy="4340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73" name=""/>
          <p:cNvSpPr/>
          <p:nvPr/>
        </p:nvSpPr>
        <p:spPr>
          <a:xfrm>
            <a:off x="259560" y="2666880"/>
            <a:ext cx="2035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What 3 type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erosion a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taking plac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Grande"/>
              </a:rPr>
              <a:t>E. Wi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415120" y="6400800"/>
            <a:ext cx="323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© Copyright 2004 - 2005.  M. J. Krech. All rights reserved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THE END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76" name=""/>
          <p:cNvSpPr/>
          <p:nvPr/>
        </p:nvSpPr>
        <p:spPr>
          <a:xfrm>
            <a:off x="469080" y="198108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6157"/>
                </a:solidFill>
                <a:latin typeface="Lucida Grande"/>
              </a:rPr>
              <a:t>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362320" y="1905120"/>
            <a:ext cx="6553080" cy="4340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78" name=""/>
          <p:cNvSpPr/>
          <p:nvPr/>
        </p:nvSpPr>
        <p:spPr>
          <a:xfrm>
            <a:off x="574200" y="2590920"/>
            <a:ext cx="14821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Grande"/>
              </a:rPr>
              <a:t>W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Grande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Grande"/>
              </a:rPr>
              <a:t>Gra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415120" y="6400800"/>
            <a:ext cx="323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© Copyright 2004 - 2005.  M. J. Krech. All rights reserved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04920" y="22860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22cd"/>
                </a:solidFill>
                <a:latin typeface="Lucida Grande"/>
              </a:rPr>
              <a:t>Erosion is the movement of weathered rock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22cd"/>
                </a:solidFill>
                <a:latin typeface="Lucida Grande"/>
              </a:rPr>
              <a:t>and soil particles from one place to an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0663"/>
          <a:stretch/>
        </p:blipFill>
        <p:spPr>
          <a:xfrm>
            <a:off x="1676520" y="2209680"/>
            <a:ext cx="5715000" cy="35895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THERE ARE FIVE AGENTS </a:t>
            </a:r>
            <a:br>
              <a:rPr sz="4400"/>
            </a:b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OF EROSION.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Grande"/>
              </a:rPr>
              <a:t>GRAVITY</a:t>
            </a:r>
            <a:endParaRPr b="0" lang="en-US" sz="4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10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Grande"/>
              </a:rPr>
              <a:t>GLACIERS</a:t>
            </a:r>
            <a:endParaRPr b="0" lang="en-US" sz="4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10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Grande"/>
              </a:rPr>
              <a:t>WIND </a:t>
            </a:r>
            <a:endParaRPr b="0" lang="en-US" sz="4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10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Grande"/>
              </a:rPr>
              <a:t>WATER</a:t>
            </a:r>
            <a:endParaRPr b="0" lang="en-US" sz="4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10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Grande"/>
              </a:rPr>
              <a:t>WAVES</a:t>
            </a:r>
            <a:endParaRPr b="0" lang="en-US" sz="40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352680" y="1981080"/>
            <a:ext cx="579132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GRAVITY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560" y="2742840"/>
            <a:ext cx="3957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EROSION CAUSED BY GRAVITY IS CALLED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568c7"/>
                </a:solidFill>
                <a:latin typeface="Lucida Grande"/>
              </a:rPr>
              <a:t>     </a:t>
            </a:r>
            <a:r>
              <a:rPr b="1" lang="en-US" sz="4000" spc="-1" strike="noStrike">
                <a:solidFill>
                  <a:srgbClr val="3568c7"/>
                </a:solidFill>
                <a:latin typeface="Lucida Grande"/>
              </a:rPr>
              <a:t>MASS WASTING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809880" y="2128680"/>
            <a:ext cx="5029200" cy="3537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Gravity: Rapid Mass Wasting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87488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One type of rapid mass wasting i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22cd"/>
                </a:solidFill>
                <a:latin typeface="Lucida Grande"/>
              </a:rPr>
              <a:t>  </a:t>
            </a:r>
            <a:r>
              <a:rPr b="1" lang="en-US" sz="4000" spc="-1" strike="noStrike">
                <a:solidFill>
                  <a:srgbClr val="1822cd"/>
                </a:solidFill>
                <a:latin typeface="Lucida Grande"/>
              </a:rPr>
              <a:t>LANDSLIDE </a:t>
            </a:r>
            <a:endParaRPr b="0" lang="en-US" sz="4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which is the tumbling of dry soil and rocks downhil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343400" y="2438280"/>
            <a:ext cx="4572000" cy="3048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Gravity: Rapid Mass Wasting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240" y="2057040"/>
            <a:ext cx="4033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nother type i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22cd"/>
                </a:solidFill>
                <a:latin typeface="Lucida Grande"/>
              </a:rPr>
              <a:t>  </a:t>
            </a:r>
            <a:r>
              <a:rPr b="1" lang="en-US" sz="4000" spc="-1" strike="noStrike">
                <a:solidFill>
                  <a:srgbClr val="1822cd"/>
                </a:solidFill>
                <a:latin typeface="Lucida Grande"/>
              </a:rPr>
              <a:t>MUDFLOW</a:t>
            </a:r>
            <a:endParaRPr b="0" lang="en-US" sz="4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where rain mixes with the soil to form mud which  moves downhil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962520" y="2362320"/>
            <a:ext cx="4800600" cy="3190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Gravity: Slow Mass Wasting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One type of slow mass wasting i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  </a:t>
            </a:r>
            <a:r>
              <a:rPr b="1" lang="en-US" sz="4000" spc="-1" strike="noStrike">
                <a:solidFill>
                  <a:srgbClr val="1822cd"/>
                </a:solidFill>
                <a:latin typeface="Lucida Grande"/>
              </a:rPr>
              <a:t>EARTHFLOW</a:t>
            </a:r>
            <a:endParaRPr b="0" lang="en-US" sz="4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where a mass of soil and plant life begin to slowly move downhill after a heavy rain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038480" y="2438280"/>
            <a:ext cx="4800600" cy="3197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Gravity: Slow Mass Wasting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nother type i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  </a:t>
            </a:r>
            <a:r>
              <a:rPr b="1" lang="en-US" sz="3600" spc="-1" strike="noStrike">
                <a:solidFill>
                  <a:srgbClr val="1822cd"/>
                </a:solidFill>
                <a:latin typeface="Lucida Grande"/>
              </a:rPr>
              <a:t>CREEP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where soil particles move slowly downhill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This is the slowest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6603" r="0" b="0"/>
          <a:stretch/>
        </p:blipFill>
        <p:spPr>
          <a:xfrm>
            <a:off x="4724280" y="2203560"/>
            <a:ext cx="3056040" cy="4227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6T23:37:02Z</dcterms:created>
  <dc:creator>Eric Knapp</dc:creator>
  <dc:description/>
  <dc:language>en-US</dc:language>
  <cp:lastModifiedBy>staff</cp:lastModifiedBy>
  <dcterms:modified xsi:type="dcterms:W3CDTF">2008-01-07T15:25:31Z</dcterms:modified>
  <cp:revision>85</cp:revision>
  <dc:subject/>
  <dc:title>TYPES OF EROSION</dc:title>
</cp:coreProperties>
</file>